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1.wmf" ContentType="image/x-wmf"/>
  <Override PartName="/ppt/media/image17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600-311B-4AFE-865F-5CFF152D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515-0A39-4886-9C1A-68A59DF1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E05-015E-4030-B498-D7094A83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55F-37D1-4990-9268-8BD9356A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B132-A51E-4B8A-81C6-2AB3277A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1F30-C434-4BFD-B320-6140280F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A485-34E4-4E10-8F8B-BD4A5710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E61B-09BA-4F86-911A-32F82914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904C-D00A-43B3-8E4C-78368BC5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5BCB-670A-4E16-82AF-40A1E62F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163F-11D5-4E03-B52B-F4F7CE79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C1F-3C34-4226-93C5-C6571482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0807-C0B1-4DBF-B497-8B58F5B8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E3AA-31C9-4139-A5AC-4C207211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4BFC-72B6-4A3F-AB35-3CDD4A88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83F0-D028-4089-A968-CBA4AA70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70B0-B4B6-4AB8-9327-41CE5D89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463-9528-430F-B75C-97AE72B9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2F4-5167-4B8D-AA4A-081BA3C4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CAE3-CF46-4D84-AF60-9C1206E8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D12-E036-4BB7-BF63-9137FEFB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E34-81E5-4DE3-A5CD-9003C972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49D-DCBC-4880-87F8-7F11CE92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A62-B941-4D71-B46D-29519940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52920" y="-4680"/>
                <a:ext cx="987480" cy="68353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51480" y="1694880"/>
                <a:ext cx="98748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53280" y="128592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53280" y="149400"/>
                <a:ext cx="98748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51480" y="98712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53640" y="372600"/>
                <a:ext cx="100008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1760" y="3938040"/>
                <a:ext cx="987480" cy="4996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43200" y="353484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43560" y="239580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43200" y="323136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43200" y="29293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43920" y="2617920"/>
                <a:ext cx="100008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49680" y="456048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1760" y="566820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1400" y="6201000"/>
                <a:ext cx="9871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1400" y="5891760"/>
                <a:ext cx="100008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BC13-F7A2-4BC3-ABF8-B55499EB8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C39C-5FE1-4E42-93CF-72296C183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1294920"/>
            <a:ext cx="87933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Times New Roman"/>
              </a:rPr>
              <a:t>Pregnancy Diagnosi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Real Time Ultrasound (RT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y 25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Picture 3" descr="25 day"/>
          <p:cNvPicPr/>
          <p:nvPr/>
        </p:nvPicPr>
        <p:blipFill>
          <a:blip r:embed="rId1"/>
          <a:stretch/>
        </p:blipFill>
        <p:spPr>
          <a:xfrm>
            <a:off x="1143000" y="19810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23 day2"/>
          <p:cNvPicPr/>
          <p:nvPr/>
        </p:nvPicPr>
        <p:blipFill>
          <a:blip r:embed="rId2"/>
          <a:stretch/>
        </p:blipFill>
        <p:spPr>
          <a:xfrm>
            <a:off x="5334120" y="1981080"/>
            <a:ext cx="3606840" cy="2705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25 day3"/>
          <p:cNvPicPr/>
          <p:nvPr/>
        </p:nvPicPr>
        <p:blipFill>
          <a:blip r:embed="rId3"/>
          <a:stretch/>
        </p:blipFill>
        <p:spPr>
          <a:xfrm>
            <a:off x="3429000" y="419112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6"/>
          <p:cNvSpPr/>
          <p:nvPr/>
        </p:nvSpPr>
        <p:spPr>
          <a:xfrm>
            <a:off x="2133720" y="342900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2666880" y="3505320"/>
            <a:ext cx="228600" cy="761760"/>
          </a:xfrm>
          <a:prstGeom prst="upArrow">
            <a:avLst>
              <a:gd name="adj1" fmla="val 50000"/>
              <a:gd name="adj2" fmla="val 83307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4495680" y="55627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5105520" y="54864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1143000" y="502920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, fluid filled vesicles are easily detected at this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What Influences RTU?</a:t>
            </a:r>
            <a:br>
              <a:rPr sz="36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-Fluid Diame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1143000" y="2057400"/>
          <a:ext cx="75438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75438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6"/>
          <p:cNvSpPr/>
          <p:nvPr/>
        </p:nvSpPr>
        <p:spPr>
          <a:xfrm>
            <a:off x="5928120" y="6521400"/>
            <a:ext cx="32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ketsu et al., 1997, Therioge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Optimal Times for RTU</a:t>
            </a:r>
            <a:br>
              <a:rPr sz="36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-Time to Decide on a Pregnancy Diagnosis and  Fluid Diame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2" name="Object 5"/>
          <p:cNvGraphicFramePr/>
          <p:nvPr/>
        </p:nvGraphicFramePr>
        <p:xfrm>
          <a:off x="1143000" y="2057400"/>
          <a:ext cx="75438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75438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6"/>
          <p:cNvSpPr/>
          <p:nvPr/>
        </p:nvSpPr>
        <p:spPr>
          <a:xfrm>
            <a:off x="5928120" y="6521400"/>
            <a:ext cx="32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ketsu et al., 1997, Therioge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y 35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Picture 3" descr="35 day"/>
          <p:cNvPicPr/>
          <p:nvPr/>
        </p:nvPicPr>
        <p:blipFill>
          <a:blip r:embed="rId1"/>
          <a:stretch/>
        </p:blipFill>
        <p:spPr>
          <a:xfrm>
            <a:off x="1219320" y="16765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35 day2"/>
          <p:cNvPicPr/>
          <p:nvPr/>
        </p:nvPicPr>
        <p:blipFill>
          <a:blip r:embed="rId2"/>
          <a:stretch/>
        </p:blipFill>
        <p:spPr>
          <a:xfrm>
            <a:off x="4800600" y="35053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/>
          <p:cNvSpPr/>
          <p:nvPr/>
        </p:nvSpPr>
        <p:spPr>
          <a:xfrm>
            <a:off x="8077320" y="533412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5943600" y="56386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6477120" y="36576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7315200" y="35812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4191120" y="2666880"/>
            <a:ext cx="533160" cy="228600"/>
          </a:xfrm>
          <a:prstGeom prst="leftArrow">
            <a:avLst>
              <a:gd name="adj1" fmla="val 50000"/>
              <a:gd name="adj2" fmla="val 58307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4343400" y="320040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4495680" y="380988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715000" y="1676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e mineralization starts to occ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1371600" y="5105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sicle fluid starts to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y 4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8" name="Picture 6" descr="40 day"/>
          <p:cNvPicPr/>
          <p:nvPr/>
        </p:nvPicPr>
        <p:blipFill>
          <a:blip r:embed="rId1"/>
          <a:stretch/>
        </p:blipFill>
        <p:spPr>
          <a:xfrm>
            <a:off x="1295280" y="2800440"/>
            <a:ext cx="4496040" cy="33717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019920" y="26668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vesicle fluid makes pregnancy detection more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y 4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1" name="Picture 6" descr="44 day"/>
          <p:cNvPicPr/>
          <p:nvPr/>
        </p:nvPicPr>
        <p:blipFill>
          <a:blip r:embed="rId1"/>
          <a:stretch/>
        </p:blipFill>
        <p:spPr>
          <a:xfrm>
            <a:off x="1371600" y="2514600"/>
            <a:ext cx="4846680" cy="36352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2666880" y="3581280"/>
            <a:ext cx="114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6400800" y="25146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ccurate pregnancy detection is performed between days 25-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y 5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5" name="Picture 3" descr="50 day"/>
          <p:cNvPicPr/>
          <p:nvPr/>
        </p:nvPicPr>
        <p:blipFill>
          <a:blip r:embed="rId1"/>
          <a:stretch/>
        </p:blipFill>
        <p:spPr>
          <a:xfrm>
            <a:off x="1219320" y="16765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50 day2"/>
          <p:cNvPicPr/>
          <p:nvPr/>
        </p:nvPicPr>
        <p:blipFill>
          <a:blip r:embed="rId2"/>
          <a:stretch/>
        </p:blipFill>
        <p:spPr>
          <a:xfrm>
            <a:off x="4800600" y="34290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5791320" y="167652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al development leads to detection of fetal or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295280" y="51055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difficult to differentiate sow organs from fetal org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y 7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0" name="Picture 9" descr="74 day"/>
          <p:cNvPicPr/>
          <p:nvPr/>
        </p:nvPicPr>
        <p:blipFill>
          <a:blip r:embed="rId1"/>
          <a:stretch/>
        </p:blipFill>
        <p:spPr>
          <a:xfrm>
            <a:off x="1173240" y="2610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74 day2"/>
          <p:cNvPicPr/>
          <p:nvPr/>
        </p:nvPicPr>
        <p:blipFill>
          <a:blip r:embed="rId2"/>
          <a:stretch/>
        </p:blipFill>
        <p:spPr>
          <a:xfrm>
            <a:off x="571968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74 day3"/>
          <p:cNvPicPr/>
          <p:nvPr/>
        </p:nvPicPr>
        <p:blipFill>
          <a:blip r:embed="rId3"/>
          <a:stretch/>
        </p:blipFill>
        <p:spPr>
          <a:xfrm>
            <a:off x="5719680" y="411480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13"/>
          <p:cNvSpPr/>
          <p:nvPr/>
        </p:nvSpPr>
        <p:spPr>
          <a:xfrm>
            <a:off x="3505320" y="25909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4"/>
          <p:cNvSpPr/>
          <p:nvPr/>
        </p:nvSpPr>
        <p:spPr>
          <a:xfrm>
            <a:off x="5181480" y="2438280"/>
            <a:ext cx="1524240" cy="304920"/>
          </a:xfrm>
          <a:prstGeom prst="rightArrow">
            <a:avLst>
              <a:gd name="adj1" fmla="val 50000"/>
              <a:gd name="adj2" fmla="val 133116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124080" y="17524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al ribs and other b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otential Advantages for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using RTU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665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open females for rebreed or c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non-productive sow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unintended culling of pregnant s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extent and timing of pregnancy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otential Drawbacks for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using RTU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imal sensitivity to abdominal 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tated animals can injure person and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 of purchasing a RTU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range approximately $3,500-$5,000 for farm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egnancy Failure</a:t>
            </a:r>
            <a:br>
              <a:rPr sz="4400"/>
            </a:br>
            <a:br>
              <a:rPr sz="44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0-30% of mated sows fail to farrow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1066680" y="1981080"/>
          <a:ext cx="6858000" cy="45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68580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8"/>
          <p:cNvSpPr/>
          <p:nvPr/>
        </p:nvSpPr>
        <p:spPr>
          <a:xfrm>
            <a:off x="5928120" y="6521400"/>
            <a:ext cx="32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ketsu et al., 1997, Therioge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rforming RTU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Picture 4" descr="DSCN0299"/>
          <p:cNvPicPr/>
          <p:nvPr/>
        </p:nvPicPr>
        <p:blipFill>
          <a:blip r:embed="rId1"/>
          <a:stretch/>
        </p:blipFill>
        <p:spPr>
          <a:xfrm>
            <a:off x="4572000" y="3397320"/>
            <a:ext cx="4419720" cy="33084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l is used on probe to ensure good contact with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 is placed on sow’s flank (either s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 is direct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uterine h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How RTU wor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waves are transmitted and received by the probe as they reflect off t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 absorb the waves and are displayed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 reflect most of the waves and are displayed as Whit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pregnant"/>
          <p:cNvPicPr/>
          <p:nvPr/>
        </p:nvPicPr>
        <p:blipFill>
          <a:blip r:embed="rId1"/>
          <a:stretch/>
        </p:blipFill>
        <p:spPr>
          <a:xfrm>
            <a:off x="5135400" y="261000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open"/>
          <p:cNvPicPr/>
          <p:nvPr/>
        </p:nvPicPr>
        <p:blipFill>
          <a:blip r:embed="rId2"/>
          <a:stretch/>
        </p:blipFill>
        <p:spPr>
          <a:xfrm>
            <a:off x="117324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105520" y="2133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g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2590920" y="4572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ffy cloud”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t white line is present (intestinal, rectal or uterine 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luid filled vesicle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open"/>
          <p:cNvPicPr/>
          <p:nvPr/>
        </p:nvPicPr>
        <p:blipFill>
          <a:blip r:embed="rId1"/>
          <a:stretch/>
        </p:blipFill>
        <p:spPr>
          <a:xfrm>
            <a:off x="4800600" y="1981080"/>
            <a:ext cx="4145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egna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, black, fluid filled vesicles ar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re than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uid filled vesicle (One may represent the blad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right whit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“Fluffy cloud” appea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pregnant"/>
          <p:cNvPicPr/>
          <p:nvPr/>
        </p:nvPicPr>
        <p:blipFill>
          <a:blip r:embed="rId1"/>
          <a:stretch/>
        </p:blipFill>
        <p:spPr>
          <a:xfrm>
            <a:off x="5135400" y="198108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y 2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Picture 3" descr="21 day"/>
          <p:cNvPicPr/>
          <p:nvPr/>
        </p:nvPicPr>
        <p:blipFill>
          <a:blip r:embed="rId1"/>
          <a:stretch/>
        </p:blipFill>
        <p:spPr>
          <a:xfrm>
            <a:off x="1066680" y="22096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21 day2"/>
          <p:cNvPicPr/>
          <p:nvPr/>
        </p:nvPicPr>
        <p:blipFill>
          <a:blip r:embed="rId2"/>
          <a:stretch/>
        </p:blipFill>
        <p:spPr>
          <a:xfrm>
            <a:off x="4648320" y="358128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3505320" y="3657600"/>
            <a:ext cx="533160" cy="228600"/>
          </a:xfrm>
          <a:prstGeom prst="leftArrow">
            <a:avLst>
              <a:gd name="adj1" fmla="val 50000"/>
              <a:gd name="adj2" fmla="val 58307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2362320" y="34290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5943600" y="57913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4952880" y="52578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5943600" y="44197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486400" y="1676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5638680" y="20574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sicles may or may not be detected at this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y 2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Picture 3" descr="23 day"/>
          <p:cNvPicPr/>
          <p:nvPr/>
        </p:nvPicPr>
        <p:blipFill>
          <a:blip r:embed="rId1"/>
          <a:stretch/>
        </p:blipFill>
        <p:spPr>
          <a:xfrm>
            <a:off x="1066680" y="21337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23 day2"/>
          <p:cNvPicPr/>
          <p:nvPr/>
        </p:nvPicPr>
        <p:blipFill>
          <a:blip r:embed="rId2"/>
          <a:stretch/>
        </p:blipFill>
        <p:spPr>
          <a:xfrm>
            <a:off x="4648320" y="358128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5"/>
          <p:cNvSpPr/>
          <p:nvPr/>
        </p:nvSpPr>
        <p:spPr>
          <a:xfrm>
            <a:off x="1523880" y="36576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743200" y="4495680"/>
            <a:ext cx="304920" cy="914400"/>
          </a:xfrm>
          <a:prstGeom prst="upArrow">
            <a:avLst>
              <a:gd name="adj1" fmla="val 50000"/>
              <a:gd name="adj2" fmla="val 7497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6172200" y="5791320"/>
            <a:ext cx="304920" cy="761760"/>
          </a:xfrm>
          <a:prstGeom prst="upArrow">
            <a:avLst>
              <a:gd name="adj1" fmla="val 50000"/>
              <a:gd name="adj2" fmla="val 62456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5943600" y="47242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5791320" y="198108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sicles are just becoming developed enough for RTU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18:27:34Z</dcterms:created>
  <dc:creator>daphne reeves</dc:creator>
  <dc:description/>
  <dc:language>en-US</dc:language>
  <cp:lastModifiedBy>Sue Schulteis</cp:lastModifiedBy>
  <dcterms:modified xsi:type="dcterms:W3CDTF">2008-10-10T21:04:43Z</dcterms:modified>
  <cp:revision>12</cp:revision>
  <dc:subject/>
  <dc:title>Pregnancy Diagnosis</dc:title>
</cp:coreProperties>
</file>